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5E2B7-D3F2-4C12-933B-7B8C3EB0BD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7A275-CEB1-4798-B89D-60F0CBD3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EB635-2031-4FF7-8067-86EA55690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737-3823-437C-95D2-085CACBF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EE2-2015-48BC-90A9-CD1925C7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BF0-C28F-47D5-BA3E-C4652969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E16-1C9E-4514-A26E-6E66DBE1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44A-E57F-44AC-AABA-0E350CD5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092-58F8-40F0-88AE-A71641D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EBE-EC4F-46FC-9D19-AB49D9C6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5B5-B53C-4E0B-9E4B-D3BEEBF9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138-B02C-457E-94D0-0CECC534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957-CB54-45DC-BC21-2DCE0B40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4EF-C3A9-4B17-B743-A29A7DC3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5E8-EB21-44E9-B9D0-BC3BF50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A1EBF-19EC-443B-9CE5-7DC26D7A5B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E0DF3-0E91-4667-920C-8ECB4226F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Indi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Sean Goins and Katy 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Sma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0/2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and Hun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5108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ache hunted and gathered deer, rabbit, berries, nuts, vegetables, fruits, and buffa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unted with bows and arrows, knives/axes and g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imagesCA2HD3WB.jpg"/>
          <p:cNvPicPr/>
          <p:nvPr/>
        </p:nvPicPr>
        <p:blipFill>
          <a:blip r:embed="rId1"/>
          <a:stretch/>
        </p:blipFill>
        <p:spPr>
          <a:xfrm>
            <a:off x="5881680" y="3508200"/>
            <a:ext cx="2633760" cy="290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weapons.jpg"/>
          <p:cNvPicPr/>
          <p:nvPr/>
        </p:nvPicPr>
        <p:blipFill>
          <a:blip r:embed="rId2"/>
          <a:stretch/>
        </p:blipFill>
        <p:spPr>
          <a:xfrm>
            <a:off x="662040" y="3681360"/>
            <a:ext cx="48769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ily Life and Activ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women took care of the children and made clothing. They prepared and cooked the food, gathered fruits, vegetables, and firewood. They also gathered the grasses for making bask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men hunted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ed for comb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imagesCA8NV2CJ.jpg"/>
          <p:cNvPicPr/>
          <p:nvPr/>
        </p:nvPicPr>
        <p:blipFill>
          <a:blip r:embed="rId1"/>
          <a:stretch/>
        </p:blipFill>
        <p:spPr>
          <a:xfrm>
            <a:off x="4948200" y="3693960"/>
            <a:ext cx="354636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ief and Wo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d two cultural here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/Fire and Water/Moon/Thunder- these were believed to destroy harmful creatu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ine Men, Sand Pa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rital Dances to ward off evil spirits, bring rain, and grow healthy cr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the Apache known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riors and Surviv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tle and affectionate with there own tri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ued there children/yo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nged for the Apache as Settlers Arriv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ed by adopting certain customes and learning to use trade with goods and cro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 they had to raid and loot to survive until the U.S military engaged in fierce battles until most were captured and shipped to reservation cam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s and Celeb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ritual ceremonies were a big part of life. The Medicine Man or Shaman of the tribe would perform Long Life, Healing, and War ceremo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lder would pass down a Code of Honor to the young through example and teac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ons to Tex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ught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and crop cul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ed to trade and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apaches.jpg"/>
          <p:cNvPicPr/>
          <p:nvPr/>
        </p:nvPicPr>
        <p:blipFill>
          <a:blip r:embed="rId1"/>
          <a:stretch/>
        </p:blipFill>
        <p:spPr>
          <a:xfrm>
            <a:off x="528480" y="3121200"/>
            <a:ext cx="5483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wikipedia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mericanindianoriginal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kidinf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texasindian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4:15:50Z</dcterms:created>
  <dc:creator>Sean Goins</dc:creator>
  <dc:description/>
  <dc:language>en-US</dc:language>
  <cp:lastModifiedBy>Sean Goins</cp:lastModifiedBy>
  <dcterms:modified xsi:type="dcterms:W3CDTF">2011-10-21T18:51:50Z</dcterms:modified>
  <cp:revision>29</cp:revision>
  <dc:subject/>
  <dc:title>Apache</dc:title>
</cp:coreProperties>
</file>